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D95B-F0BE-4609-93CA-618331EA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479-D6AB-4389-9556-65736EAB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80F5-5D22-43DA-8F46-8867E429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AF52-2368-41AE-A018-88F8BEB9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6D9-383C-4C79-817C-28912931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78EE-24B9-4264-B2DF-190A6A8E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B00-50B3-46D1-98A9-CCC40CB7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426-89A3-4EF4-B384-FCB31725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4EDE-D5F2-4C6E-81CD-D668C042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3182-041F-4272-A40A-D42BF6B4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949-26B1-4533-A60F-4BAA4745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0C4-D7D0-4956-B195-7CF855CA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setzentwurf zur Hessischen Gemeindeordnung (HG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B79B-F0FE-4204-88D9-64968F996C8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Novelle der Hessischen Gemeindeordn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Eine neue Kommunalverfas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für He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kopofo-logo"/>
          <p:cNvPicPr/>
          <p:nvPr/>
        </p:nvPicPr>
        <p:blipFill>
          <a:blip r:embed="rId1"/>
          <a:stretch/>
        </p:blipFill>
        <p:spPr>
          <a:xfrm>
            <a:off x="5076720" y="549360"/>
            <a:ext cx="3249720" cy="990360"/>
          </a:xfrm>
          <a:prstGeom prst="rect">
            <a:avLst/>
          </a:prstGeom>
          <a:ln w="0">
            <a:noFill/>
          </a:ln>
        </p:spPr>
      </p:pic>
      <p:pic>
        <p:nvPicPr>
          <p:cNvPr id="45" name="Grafik 7" descr="Linke-Logo.gif"/>
          <p:cNvPicPr/>
          <p:nvPr/>
        </p:nvPicPr>
        <p:blipFill>
          <a:blip r:embed="rId2"/>
          <a:stretch/>
        </p:blipFill>
        <p:spPr>
          <a:xfrm>
            <a:off x="826920" y="692280"/>
            <a:ext cx="2765520" cy="865080"/>
          </a:xfrm>
          <a:prstGeom prst="rect">
            <a:avLst/>
          </a:prstGeom>
          <a:ln w="0">
            <a:noFill/>
          </a:ln>
        </p:spPr>
      </p:pic>
      <p:pic>
        <p:nvPicPr>
          <p:cNvPr id="46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Haushaltsrech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Stärkung Gemeindeparlament gegenüber Vorst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aushaltswirtschaftliche Sperren (§ 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utzungsüberlassungen (§ 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Haushaltsausgleich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innerhalb angemessenen Zeit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§§ 92, 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Kredite für Investitionen möglich (§ 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Keine Einzelgenehmigungspflicht bei Krediten ( § 1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Haushaltssatzung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wingende Vorlage bis Sept. ( § 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Eingaben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von Gemeindeangehörigen an Vertretu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Bürgerhaushalte) (§ 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kopofo-logo"/>
          <p:cNvPicPr/>
          <p:nvPr/>
        </p:nvPicPr>
        <p:blipFill>
          <a:blip r:embed="rId1"/>
          <a:stretch/>
        </p:blipFill>
        <p:spPr>
          <a:xfrm>
            <a:off x="6443640" y="260280"/>
            <a:ext cx="2171880" cy="662040"/>
          </a:xfrm>
          <a:prstGeom prst="rect">
            <a:avLst/>
          </a:prstGeom>
          <a:ln w="0">
            <a:noFill/>
          </a:ln>
        </p:spPr>
      </p:pic>
      <p:pic>
        <p:nvPicPr>
          <p:cNvPr id="124" name="Grafik 7" descr="Linke-Logo.gif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606600"/>
          </a:xfrm>
          <a:prstGeom prst="rect">
            <a:avLst/>
          </a:prstGeom>
          <a:ln w="0">
            <a:noFill/>
          </a:ln>
        </p:spPr>
      </p:pic>
      <p:pic>
        <p:nvPicPr>
          <p:cNvPr id="125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126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sp>
        <p:nvSpPr>
          <p:cNvPr id="127" name="Foliennummernplatzhalt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1693-291D-4F4F-946E-C3D175DD7E2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ußzeilenplatzhalter 11"/>
          <p:cNvSpPr/>
          <p:nvPr/>
        </p:nvSpPr>
        <p:spPr>
          <a:xfrm>
            <a:off x="2700360" y="333360"/>
            <a:ext cx="338436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nser Gesetzentwurf z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essischen Gemeindeord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Wirtschaftliche Betätig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209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Verschärfung des 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Konnexitätsprinzips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(§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Wirtschaftstätigkeit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soll einen höhere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Stellenwert als bisher erhalten und deutli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ransparenter sein. (§ 1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Begriff des „öffentlichen Zwecks“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mu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erweitert un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Subsidiaritätsklausel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entschärf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kopofo-logo"/>
          <p:cNvPicPr/>
          <p:nvPr/>
        </p:nvPicPr>
        <p:blipFill>
          <a:blip r:embed="rId1"/>
          <a:stretch/>
        </p:blipFill>
        <p:spPr>
          <a:xfrm>
            <a:off x="6443640" y="260280"/>
            <a:ext cx="2171880" cy="662040"/>
          </a:xfrm>
          <a:prstGeom prst="rect">
            <a:avLst/>
          </a:prstGeom>
          <a:ln w="0">
            <a:noFill/>
          </a:ln>
        </p:spPr>
      </p:pic>
      <p:pic>
        <p:nvPicPr>
          <p:cNvPr id="133" name="Grafik 7" descr="Linke-Logo.gif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606600"/>
          </a:xfrm>
          <a:prstGeom prst="rect">
            <a:avLst/>
          </a:prstGeom>
          <a:ln w="0">
            <a:noFill/>
          </a:ln>
        </p:spPr>
      </p:pic>
      <p:pic>
        <p:nvPicPr>
          <p:cNvPr id="134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135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sp>
        <p:nvSpPr>
          <p:cNvPr id="136" name="Foliennummernplatzhalt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26E9-FF1F-4AB1-ADC4-3D589C05FAA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ußzeilenplatzhalter 11"/>
          <p:cNvSpPr/>
          <p:nvPr/>
        </p:nvSpPr>
        <p:spPr>
          <a:xfrm>
            <a:off x="2700360" y="333360"/>
            <a:ext cx="338436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nser Gesetzentwurf z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essischen Gemeindeord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Wirtschaftliche Betätigu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425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Ein Abrücken vom Gebot des voll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Wertersatzes bei Veräußerungen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von Vermö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nur noch im öffentlichen Interesse zulässig (§ 10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Neueinführung „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Kommunalunternehmen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öffentlichen Rechts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“ (§§ 122a, 122b, 122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Beteiligungsbericht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erweitert (§ 123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Vertretung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in durch  Gemeindevertretung  (§ 1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kopofo-logo"/>
          <p:cNvPicPr/>
          <p:nvPr/>
        </p:nvPicPr>
        <p:blipFill>
          <a:blip r:embed="rId1"/>
          <a:stretch/>
        </p:blipFill>
        <p:spPr>
          <a:xfrm>
            <a:off x="6443640" y="260280"/>
            <a:ext cx="2171880" cy="662040"/>
          </a:xfrm>
          <a:prstGeom prst="rect">
            <a:avLst/>
          </a:prstGeom>
          <a:ln w="0">
            <a:noFill/>
          </a:ln>
        </p:spPr>
      </p:pic>
      <p:pic>
        <p:nvPicPr>
          <p:cNvPr id="142" name="Grafik 7" descr="Linke-Logo.gif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60660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144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sp>
        <p:nvSpPr>
          <p:cNvPr id="145" name="Foliennummernplatzhalt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76E3-EF4C-446B-8B2A-8818E8D3C6F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ußzeilenplatzhalter 11"/>
          <p:cNvSpPr/>
          <p:nvPr/>
        </p:nvSpPr>
        <p:spPr>
          <a:xfrm>
            <a:off x="2700360" y="333360"/>
            <a:ext cx="338436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nser Gesetzentwurf z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essischen Gemeindeord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Privatisierung stoppen- Daseinsvorsorge stä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209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Rekommunalisierung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statt ständig weiter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Privatisierung (§§ 121 ff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Eigenbetriebsvorbehalte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Kommunalunternehmen (§ 122 ff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Haftungsbegrenzung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für Kommunen be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Beteiligungen an Unternehmen des priva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Rechts (§ 122 I Nr.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kopofo-logo"/>
          <p:cNvPicPr/>
          <p:nvPr/>
        </p:nvPicPr>
        <p:blipFill>
          <a:blip r:embed="rId1"/>
          <a:stretch/>
        </p:blipFill>
        <p:spPr>
          <a:xfrm>
            <a:off x="6443640" y="260280"/>
            <a:ext cx="2171880" cy="662040"/>
          </a:xfrm>
          <a:prstGeom prst="rect">
            <a:avLst/>
          </a:prstGeom>
          <a:ln w="0">
            <a:noFill/>
          </a:ln>
        </p:spPr>
      </p:pic>
      <p:pic>
        <p:nvPicPr>
          <p:cNvPr id="151" name="Grafik 7" descr="Linke-Logo.gif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606600"/>
          </a:xfrm>
          <a:prstGeom prst="rect">
            <a:avLst/>
          </a:prstGeom>
          <a:ln w="0">
            <a:noFill/>
          </a:ln>
        </p:spPr>
      </p:pic>
      <p:pic>
        <p:nvPicPr>
          <p:cNvPr id="152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153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sp>
        <p:nvSpPr>
          <p:cNvPr id="154" name="Foliennummernplatzhalt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B166-3B66-4A25-846C-4F5C12573AF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ußzeilenplatzhalter 11"/>
          <p:cNvSpPr/>
          <p:nvPr/>
        </p:nvSpPr>
        <p:spPr>
          <a:xfrm>
            <a:off x="2700360" y="333360"/>
            <a:ext cx="338436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nser Gesetzentwurf z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essischen Gemeindeord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zum Schl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209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ausschließlich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 weibliche Schreibwe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auf der Grundlage des § 11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und noch viele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 weitere Regelungen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kopofo-logo"/>
          <p:cNvPicPr/>
          <p:nvPr/>
        </p:nvPicPr>
        <p:blipFill>
          <a:blip r:embed="rId1"/>
          <a:stretch/>
        </p:blipFill>
        <p:spPr>
          <a:xfrm>
            <a:off x="6443640" y="260280"/>
            <a:ext cx="2171880" cy="662040"/>
          </a:xfrm>
          <a:prstGeom prst="rect">
            <a:avLst/>
          </a:prstGeom>
          <a:ln w="0">
            <a:noFill/>
          </a:ln>
        </p:spPr>
      </p:pic>
      <p:pic>
        <p:nvPicPr>
          <p:cNvPr id="160" name="Grafik 7" descr="Linke-Logo.gif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606600"/>
          </a:xfrm>
          <a:prstGeom prst="rect">
            <a:avLst/>
          </a:prstGeom>
          <a:ln w="0">
            <a:noFill/>
          </a:ln>
        </p:spPr>
      </p:pic>
      <p:pic>
        <p:nvPicPr>
          <p:cNvPr id="161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162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sp>
        <p:nvSpPr>
          <p:cNvPr id="163" name="Foliennummernplatzhalt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B798-0D1B-41AF-B966-F09738CB1C0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ußzeilenplatzhalter 11"/>
          <p:cNvSpPr/>
          <p:nvPr/>
        </p:nvSpPr>
        <p:spPr>
          <a:xfrm>
            <a:off x="2700360" y="333360"/>
            <a:ext cx="338436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nser Gesetzentwurf z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essischen Gemeindeord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Arial"/>
              </a:rPr>
              <a:t>Von der Idee zum Gese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2803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ginn vor über 2 Jahren auf Kommunelinks-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ückkopplung mit linken Kommunalpolitik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arstellung in Kommunalkonferenz Jan.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auftragung durch Landtagsfraktion: Gesetzentwu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ste Lesung im Landtag, Nov.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chriftliche Expertenanhörung Innenausschuss, März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inbringung Regierungsentwurf  im Landtag, Mai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GEMEINSAME parlamentarische Beratung, Sept.–Nov.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kopofo-logo"/>
          <p:cNvPicPr/>
          <p:nvPr/>
        </p:nvPicPr>
        <p:blipFill>
          <a:blip r:embed="rId1"/>
          <a:stretch/>
        </p:blipFill>
        <p:spPr>
          <a:xfrm>
            <a:off x="6443640" y="260280"/>
            <a:ext cx="2171880" cy="662040"/>
          </a:xfrm>
          <a:prstGeom prst="rect">
            <a:avLst/>
          </a:prstGeom>
          <a:ln w="0">
            <a:noFill/>
          </a:ln>
        </p:spPr>
      </p:pic>
      <p:pic>
        <p:nvPicPr>
          <p:cNvPr id="52" name="Grafik 7" descr="Linke-Logo.gif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606600"/>
          </a:xfrm>
          <a:prstGeom prst="rect">
            <a:avLst/>
          </a:prstGeom>
          <a:ln w="0">
            <a:noFill/>
          </a:ln>
        </p:spPr>
      </p:pic>
      <p:pic>
        <p:nvPicPr>
          <p:cNvPr id="53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54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sp>
        <p:nvSpPr>
          <p:cNvPr id="55" name="Foliennummernplatzhalt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64EA-F7E1-45DA-8870-0A7A28A9055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ußzeilenplatzhalter 11"/>
          <p:cNvSpPr/>
          <p:nvPr/>
        </p:nvSpPr>
        <p:spPr>
          <a:xfrm>
            <a:off x="2700360" y="333360"/>
            <a:ext cx="338436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nser Gesetzentwurf z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essischen Gemeindeord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Arial"/>
              </a:rPr>
              <a:t>Zi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209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Mehr Demokratie und Transpar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Stärkung der kommunalen Selbstverwal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Verbessertes (erweitertes) Wahlrec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Lokale Umweltschutz und Klimaziele stä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Bessere Haushaltsplanung und wirtschaftliche Betätigung der Komm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Privatisierung stoppen, Daseinsvorsorge ausbau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kopofo-logo"/>
          <p:cNvPicPr/>
          <p:nvPr/>
        </p:nvPicPr>
        <p:blipFill>
          <a:blip r:embed="rId1"/>
          <a:stretch/>
        </p:blipFill>
        <p:spPr>
          <a:xfrm>
            <a:off x="6443640" y="260280"/>
            <a:ext cx="2171880" cy="662040"/>
          </a:xfrm>
          <a:prstGeom prst="rect">
            <a:avLst/>
          </a:prstGeom>
          <a:ln w="0">
            <a:noFill/>
          </a:ln>
        </p:spPr>
      </p:pic>
      <p:pic>
        <p:nvPicPr>
          <p:cNvPr id="61" name="Grafik 7" descr="Linke-Logo.gif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606600"/>
          </a:xfrm>
          <a:prstGeom prst="rect">
            <a:avLst/>
          </a:prstGeom>
          <a:ln w="0">
            <a:noFill/>
          </a:ln>
        </p:spPr>
      </p:pic>
      <p:pic>
        <p:nvPicPr>
          <p:cNvPr id="62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63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sp>
        <p:nvSpPr>
          <p:cNvPr id="64" name="Foliennummernplatzhalt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0EA1-ED67-4E41-886E-7D245782B0B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ußzeilenplatzhalter 11"/>
          <p:cNvSpPr/>
          <p:nvPr/>
        </p:nvSpPr>
        <p:spPr>
          <a:xfrm>
            <a:off x="2700360" y="333360"/>
            <a:ext cx="338436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nser Gesetzentwurf z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essischen Gemeindeord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Stärkung der Gleichstellungsbeauftrag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209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Bestellung in allen Gemeinden ab 15.000 A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Stärkung ihrer Mitwirkungsrech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eilnahme- und Rederecht in Gemeindevo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und Gemeindevertre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Berichtspflicht gegenüber Gemeindevertre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Widerspruchsrecht gegenüber Bürgermeiste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(alles § 4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kopofo-logo"/>
          <p:cNvPicPr/>
          <p:nvPr/>
        </p:nvPicPr>
        <p:blipFill>
          <a:blip r:embed="rId1"/>
          <a:stretch/>
        </p:blipFill>
        <p:spPr>
          <a:xfrm>
            <a:off x="6443640" y="260280"/>
            <a:ext cx="2171880" cy="662040"/>
          </a:xfrm>
          <a:prstGeom prst="rect">
            <a:avLst/>
          </a:prstGeom>
          <a:ln w="0">
            <a:noFill/>
          </a:ln>
        </p:spPr>
      </p:pic>
      <p:pic>
        <p:nvPicPr>
          <p:cNvPr id="70" name="Grafik 7" descr="Linke-Logo.gif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606600"/>
          </a:xfrm>
          <a:prstGeom prst="rect">
            <a:avLst/>
          </a:prstGeom>
          <a:ln w="0">
            <a:noFill/>
          </a:ln>
        </p:spPr>
      </p:pic>
      <p:pic>
        <p:nvPicPr>
          <p:cNvPr id="71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72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sp>
        <p:nvSpPr>
          <p:cNvPr id="73" name="Foliennummernplatzhalt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CED7-5A0B-4C91-8063-F8EE475D4E6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ußzeilenplatzhalter 11"/>
          <p:cNvSpPr/>
          <p:nvPr/>
        </p:nvSpPr>
        <p:spPr>
          <a:xfrm>
            <a:off x="2700360" y="333360"/>
            <a:ext cx="338436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nser Gesetzentwurf z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essischen Gemeindeord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Stärkung der Beirä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425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Ortbeir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trags- und Rederecht in der Gemeindevertretung (§ 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stimmungspflicht bei Grenzänderung/Auflösung (§ 8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Ausländerbeirat</a:t>
            </a:r>
            <a:r>
              <a:rPr b="0" i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trags- und Rederecht in der Gemeindevertretung ( § 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mfassende und frühzeitige Einbeziehung (§ 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uch das Wahlrecht ab 16 Jahren ! (§ 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Kinder- und Jugendbeir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tärkung durch ausdrückliche Einbeziehung (§ 4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kopofo-logo"/>
          <p:cNvPicPr/>
          <p:nvPr/>
        </p:nvPicPr>
        <p:blipFill>
          <a:blip r:embed="rId1"/>
          <a:stretch/>
        </p:blipFill>
        <p:spPr>
          <a:xfrm>
            <a:off x="6443640" y="260280"/>
            <a:ext cx="2171880" cy="662040"/>
          </a:xfrm>
          <a:prstGeom prst="rect">
            <a:avLst/>
          </a:prstGeom>
          <a:ln w="0">
            <a:noFill/>
          </a:ln>
        </p:spPr>
      </p:pic>
      <p:pic>
        <p:nvPicPr>
          <p:cNvPr id="79" name="Grafik 7" descr="Linke-Logo.gif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606600"/>
          </a:xfrm>
          <a:prstGeom prst="rect">
            <a:avLst/>
          </a:prstGeom>
          <a:ln w="0">
            <a:noFill/>
          </a:ln>
        </p:spPr>
      </p:pic>
      <p:pic>
        <p:nvPicPr>
          <p:cNvPr id="80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81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sp>
        <p:nvSpPr>
          <p:cNvPr id="82" name="Foliennummernplatzhalt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5064-BAC5-4DDB-B347-C406D22F565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ußzeilenplatzhalter 11"/>
          <p:cNvSpPr/>
          <p:nvPr/>
        </p:nvSpPr>
        <p:spPr>
          <a:xfrm>
            <a:off x="2700360" y="333360"/>
            <a:ext cx="338436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nser Gesetzentwurf z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essischen Gemeindeord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Kommunale Umwelt und Klimapoli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20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Bestellung Klimaschutz- und Energiebeauftragt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(§ 4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Zuständigkeit für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auen, Raumordnung, Landwirtschaf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nährung; Abfallwirtschaft und kommunale Beschaffu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Erstellung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kommunaler Klima- und Energiekonzep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Teilnahme- und Rederech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 Ausschüssen und in 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Gemeindevertre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Satzungsrecht der Gemeind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über Nutzung bestimm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rennstoffe und Heizungsarten. (§ 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kopofo-logo"/>
          <p:cNvPicPr/>
          <p:nvPr/>
        </p:nvPicPr>
        <p:blipFill>
          <a:blip r:embed="rId1"/>
          <a:stretch/>
        </p:blipFill>
        <p:spPr>
          <a:xfrm>
            <a:off x="6443640" y="260280"/>
            <a:ext cx="2171880" cy="662040"/>
          </a:xfrm>
          <a:prstGeom prst="rect">
            <a:avLst/>
          </a:prstGeom>
          <a:ln w="0">
            <a:noFill/>
          </a:ln>
        </p:spPr>
      </p:pic>
      <p:pic>
        <p:nvPicPr>
          <p:cNvPr id="88" name="Grafik 7" descr="Linke-Logo.gif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606600"/>
          </a:xfrm>
          <a:prstGeom prst="rect">
            <a:avLst/>
          </a:prstGeom>
          <a:ln w="0">
            <a:noFill/>
          </a:ln>
        </p:spPr>
      </p:pic>
      <p:pic>
        <p:nvPicPr>
          <p:cNvPr id="89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90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sp>
        <p:nvSpPr>
          <p:cNvPr id="91" name="Foliennummernplatzhalt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A050-5508-4D4C-AC18-C900B95B757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ußzeilenplatzhalter 11"/>
          <p:cNvSpPr/>
          <p:nvPr/>
        </p:nvSpPr>
        <p:spPr>
          <a:xfrm>
            <a:off x="2700360" y="333360"/>
            <a:ext cx="338436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nser Gesetzentwurf z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essischen Gemeindeord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Mehr Demokratie und Transpar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9280" y="2204640"/>
            <a:ext cx="8209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erkennung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direkter Demokrat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s Mittel z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Förderung des Gemeinwesens (§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satz „Bürger“ und „Einwohner“ durch gleichberechtig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„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Gemeindeangehörige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“ durch ausschließliche Bi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 Wohnort – 3 Monate (§§1, 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usweitung der Rech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Gemeindeantrag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§ 8b neu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Gemeindeversammlung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§ 8c ausgeweitet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Gemeindebegehren und –entschei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§8d, neu Kreis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kommunales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Petitionsrecht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§ 8e ne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kopofo-logo"/>
          <p:cNvPicPr/>
          <p:nvPr/>
        </p:nvPicPr>
        <p:blipFill>
          <a:blip r:embed="rId1"/>
          <a:stretch/>
        </p:blipFill>
        <p:spPr>
          <a:xfrm>
            <a:off x="6443640" y="260280"/>
            <a:ext cx="2171880" cy="662040"/>
          </a:xfrm>
          <a:prstGeom prst="rect">
            <a:avLst/>
          </a:prstGeom>
          <a:ln w="0">
            <a:noFill/>
          </a:ln>
        </p:spPr>
      </p:pic>
      <p:pic>
        <p:nvPicPr>
          <p:cNvPr id="97" name="Grafik 7" descr="Linke-Logo.gif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606600"/>
          </a:xfrm>
          <a:prstGeom prst="rect">
            <a:avLst/>
          </a:prstGeom>
          <a:ln w="0">
            <a:noFill/>
          </a:ln>
        </p:spPr>
      </p:pic>
      <p:pic>
        <p:nvPicPr>
          <p:cNvPr id="98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99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sp>
        <p:nvSpPr>
          <p:cNvPr id="100" name="Foliennummernplatzhalt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421B-DBAE-42E7-A6F0-27C7A92A07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ußzeilenplatzhalter 11"/>
          <p:cNvSpPr/>
          <p:nvPr/>
        </p:nvSpPr>
        <p:spPr>
          <a:xfrm>
            <a:off x="2700360" y="333360"/>
            <a:ext cx="338436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nser Gesetzentwurf z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essischen Gemeindeord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Verbessertes Wahlre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39640" y="2205000"/>
            <a:ext cx="83534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Kommunales Wahlrecht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ab 16. Lebensjahr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(aktiv) (§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Wahlrecht für 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alle Gemeindeangehörigen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(alle </a:t>
            </a:r>
            <a:r>
              <a:rPr b="0" i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deutscher Staatsbürgerschaft) (§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passives Wahlrechts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– bereits nach 3 Mon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(§ 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kopofo-logo"/>
          <p:cNvPicPr/>
          <p:nvPr/>
        </p:nvPicPr>
        <p:blipFill>
          <a:blip r:embed="rId1"/>
          <a:stretch/>
        </p:blipFill>
        <p:spPr>
          <a:xfrm>
            <a:off x="6443640" y="260280"/>
            <a:ext cx="2171880" cy="662040"/>
          </a:xfrm>
          <a:prstGeom prst="rect">
            <a:avLst/>
          </a:prstGeom>
          <a:ln w="0">
            <a:noFill/>
          </a:ln>
        </p:spPr>
      </p:pic>
      <p:pic>
        <p:nvPicPr>
          <p:cNvPr id="106" name="Grafik 7" descr="Linke-Logo.gif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606600"/>
          </a:xfrm>
          <a:prstGeom prst="rect">
            <a:avLst/>
          </a:prstGeom>
          <a:ln w="0">
            <a:noFill/>
          </a:ln>
        </p:spPr>
      </p:pic>
      <p:pic>
        <p:nvPicPr>
          <p:cNvPr id="107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108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sp>
        <p:nvSpPr>
          <p:cNvPr id="109" name="Foliennummernplatzhalt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557C-205D-4A4A-A8AD-5104BCEED52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ußzeilenplatzhalter 11"/>
          <p:cNvSpPr/>
          <p:nvPr/>
        </p:nvSpPr>
        <p:spPr>
          <a:xfrm>
            <a:off x="2700360" y="333360"/>
            <a:ext cx="338436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nser Gesetzentwurf z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essischen Gemeindeord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Stärkung der kommunalen Selbstverwal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209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nterrichtungspflicht des Gemeindevorstands (§4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uslegung und Veröffentlichung erweitert  (§§ 5, 6, 7,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Geheimhaltung eingeengt ( § 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verbesserte Informationsrechte (§ 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tragsrecht der Fraktionen ( § 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Fraktionsstatus ab einem Mandat ( § 36a = Altregel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ehr Mitbestimmung und Mitwirkung (§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kopofo-logo"/>
          <p:cNvPicPr/>
          <p:nvPr/>
        </p:nvPicPr>
        <p:blipFill>
          <a:blip r:embed="rId1"/>
          <a:stretch/>
        </p:blipFill>
        <p:spPr>
          <a:xfrm>
            <a:off x="6443640" y="260280"/>
            <a:ext cx="2171880" cy="662040"/>
          </a:xfrm>
          <a:prstGeom prst="rect">
            <a:avLst/>
          </a:prstGeom>
          <a:ln w="0">
            <a:noFill/>
          </a:ln>
        </p:spPr>
      </p:pic>
      <p:pic>
        <p:nvPicPr>
          <p:cNvPr id="115" name="Grafik 7" descr="Linke-Logo.gif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606600"/>
          </a:xfrm>
          <a:prstGeom prst="rect">
            <a:avLst/>
          </a:prstGeom>
          <a:ln w="0">
            <a:noFill/>
          </a:ln>
        </p:spPr>
      </p:pic>
      <p:pic>
        <p:nvPicPr>
          <p:cNvPr id="116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117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sp>
        <p:nvSpPr>
          <p:cNvPr id="118" name="Foliennummernplatzhalt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729F-D174-4222-AC7D-E4A03E8262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ußzeilenplatzhalter 11"/>
          <p:cNvSpPr/>
          <p:nvPr/>
        </p:nvSpPr>
        <p:spPr>
          <a:xfrm>
            <a:off x="2700360" y="333360"/>
            <a:ext cx="338436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nser Gesetzentwurf z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essischen Gemeindeord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13:37:03Z</dcterms:created>
  <dc:creator>#####</dc:creator>
  <dc:description/>
  <dc:language>en-US</dc:language>
  <cp:lastModifiedBy>schaus</cp:lastModifiedBy>
  <dcterms:modified xsi:type="dcterms:W3CDTF">2011-05-21T07:48:15Z</dcterms:modified>
  <cp:revision>74</cp:revision>
  <dc:subject/>
  <dc:title>Novelle der Hessischen Gemeindeordnung</dc:title>
</cp:coreProperties>
</file>