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A41-3022-40A1-AF89-D4F40021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96F-23F9-49BF-8631-E0B1953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4BB-C3D0-4C12-AB82-EA421B99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A15-36DC-4207-AABB-FDD9D6A0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4FC-4D35-4162-8E38-3EF5BA1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BAA-DA76-424B-B454-4EA3FCF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36E-5DEB-41EF-BDF7-68EDA53D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78D-03EC-4AB9-AC50-38303CA4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5EF-BF76-4BBA-BFDD-122ECFC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A65-DD47-4179-9E33-444F421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099-6926-4C32-AD95-816520D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B08-1FC3-4310-B494-FA02C9D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i Eicker-Wolf, DGB Hessen-Thüri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1C04-C111-4DB7-B2F2-F84DEC49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61280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wicklung 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pektive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 Kommunalfinanz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munale Investitionsquote 1994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2349360"/>
          <a:ext cx="822960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22960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Investitionsquote in Hess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2492280"/>
          <a:ext cx="8229600" cy="37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2960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uldenstand und Kassenkredi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ssen in 1995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492280"/>
          <a:ext cx="8229600" cy="36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296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atsausgabenentwicklung in ausgewählten Ländern von 1998 bis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484280"/>
          <a:ext cx="8229600" cy="4730760"/>
        </p:xfrm>
        <a:graphic>
          <a:graphicData uri="http://schemas.openxmlformats.org/drawingml/2006/table">
            <a:tbl>
              <a:tblPr/>
              <a:tblGrid>
                <a:gridCol w="2395440"/>
                <a:gridCol w="922320"/>
                <a:gridCol w="797040"/>
                <a:gridCol w="2395440"/>
                <a:gridCol w="922320"/>
                <a:gridCol w="797040"/>
              </a:tblGrid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/Ländergrup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i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*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/Ländergrup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i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ßbritan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akische Republi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WU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chech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WU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mäni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weg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t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derl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lgar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g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kre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ga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en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al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yper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au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äne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Österrei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we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eche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utsch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ni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e steuerreformbedingten Ausfälle aufgrund von Steuergesetzesänderungen seit 1998 von 2000-201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2421000"/>
          <a:ext cx="8229600" cy="374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21000"/>
                    <a:ext cx="82296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uerreformbedingten Ausfälle in Hessen aufgrund von Steuergesetzesänderungen seit 1998 im Jahr 201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Hess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0 Milliarden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Hessen (abzüglich LFA und KFA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3 Milliarden Eu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munen Hess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8 Milliarden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munen Hessen (zuzüglich KFA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 Milliarden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A = Länderfinanzausgleich, KFA = Kommunaler Finanzausgle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Perspek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aktuelle Aufschwung wird die finanzielle Lage der öffentlichen Haushalte etwas entspannen, die Finanzlage vieler Kommunen bleibt aber prekä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irkungen der Schuldenbremse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bestehen verschiedene konjunkturelle Risik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 Konjunkturprogramme laufen weltweit au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igende Rohstoffpreise in Verbindung mit Zinserhöhungen der EZB würden die Konjunktur dämpfe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Ausstieg Griechenlands aus dem Euro oder gar ein Auseinanderbrechen des Euroraums könnte dramatische Folgen für die deutsche, extrem exportabhängige deutsche Wirtschaft hab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eigentlich passieren müss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utschland wäre unter konjunkturellen Gesichtspunkten eine expansive Lohnpolitik und eine expansive Ausgabenpolitik der öffentlichen Hand angezeig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besteht ein erheblicher Ausgabenbedarf in zentralen gesellschaftlichen Feldern – für die Kommunen ist hier insbesondere an den Bildungsbereich und die öffentlichen Investitionen zu den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eine Steuerpolitik, die hohe Einkommen und Vermögen belastet, sollte die öffentliche Hand ihre Einnahmebasis vergrößern (Kommunen z.B. Gemeindewirtschaftssteuer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ilung des Nettovermögens 2002 und 200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oder über was eigentlich diskutiert werden müs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2060640"/>
          <a:ext cx="8229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264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nahmen und Ausgaben der Kommunen 1992-2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95280" y="2349360"/>
          <a:ext cx="822960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22960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ierungssaldo der Kommunen 1992-2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2276640"/>
          <a:ext cx="8229600" cy="385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76640"/>
                    <a:ext cx="822960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nahmen und Ausgaben der Kommunen in Hessen 1994-20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2421000"/>
          <a:ext cx="8229600" cy="383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21000"/>
                    <a:ext cx="822960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Staatsquote in Hessen 1994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2492280"/>
          <a:ext cx="8229600" cy="374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2960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uereinnahmen der Kommunen 1994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2060640"/>
          <a:ext cx="822960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2296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deszuweisungen und Steuereinnahmen 1994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421000"/>
          <a:ext cx="822960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22960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Sachinvestition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2421000"/>
          <a:ext cx="8229600" cy="36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22960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munale Sachinvestitionen in Hess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21000"/>
          <a:ext cx="822960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2296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1:34:25Z</dcterms:created>
  <dc:creator>keickerwolf</dc:creator>
  <dc:description/>
  <dc:language>en-US</dc:language>
  <cp:lastModifiedBy>Keickerwolf</cp:lastModifiedBy>
  <dcterms:modified xsi:type="dcterms:W3CDTF">2011-05-21T10:05:45Z</dcterms:modified>
  <cp:revision>46</cp:revision>
  <dc:subject/>
  <dc:title>Hilft nur noch Gürtel-enger-schnallen und Sozialabbau? </dc:title>
</cp:coreProperties>
</file>