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B05A-54E3-4863-995B-97380692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9C89-4DF5-4050-A891-DE72F748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A2FB-87C2-40FC-82FD-24CFBF67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EA2B-15AF-4C63-8436-DAACF930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8596-0B51-425F-801B-A7FC8024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ED9C-FBD8-4189-ACA7-A01038D3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C7DC-19A6-45BD-9D97-A1F26CE8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EC7-FEA2-4F03-945B-3449868C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6F81-58B1-493D-B4BD-E925114F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C223-BF65-466C-9F3B-453931BD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1025-57B5-43A6-8CB3-B0FDFDA6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2038-2214-49FB-B411-28A9C29A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i Eicker-Wolf, DGB Hessen-Thüring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12E8-9C40-476E-A9E2-25FA38C69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612800" cy="115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twicklung un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spektiven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r Kommunalfinanze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mmunale Investitionsquote 1994-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95280" y="2349360"/>
          <a:ext cx="8229600" cy="369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349360"/>
                    <a:ext cx="822960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mmunale Investitionsquote in Hesse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4-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8360" y="2492280"/>
          <a:ext cx="8229600" cy="378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92280"/>
                    <a:ext cx="8229600" cy="37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uldenstand und Kassenkredit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ssen in 1995-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8360" y="2492280"/>
          <a:ext cx="8229600" cy="368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92280"/>
                    <a:ext cx="8229600" cy="36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atsausgabenentwicklung in ausgewählten Ländern von 1998 bis 200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360" y="1484280"/>
          <a:ext cx="8229600" cy="4730760"/>
        </p:xfrm>
        <a:graphic>
          <a:graphicData uri="http://schemas.openxmlformats.org/drawingml/2006/table">
            <a:tbl>
              <a:tblPr/>
              <a:tblGrid>
                <a:gridCol w="2395440"/>
                <a:gridCol w="922320"/>
                <a:gridCol w="797040"/>
                <a:gridCol w="2395440"/>
                <a:gridCol w="922320"/>
                <a:gridCol w="797040"/>
              </a:tblGrid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d/Ländergrup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min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l*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d/Ländergrup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min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-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oßbritann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-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owakische Republi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WU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chech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WU-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mänie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wege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ttlan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u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ederlan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lgar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lg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r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ankrei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gar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n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owen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al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yper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hwe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au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äne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xembur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Österrei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hwei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iechen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utsch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anie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p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e steuerreformbedingten Ausfälle aufgrund von Steuergesetzesänderungen seit 1998 von 2000-2010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2421000"/>
          <a:ext cx="8229600" cy="374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21000"/>
                    <a:ext cx="8229600" cy="37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uerreformbedingten Ausfälle in Hessen aufgrund von Steuergesetzesänderungen seit 1998 im Jahr 2010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Hesse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0 Milliarden E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Hessen (abzüglich LFA und KFA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3 Milliarden Eu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munen Hesse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8 Milliarden E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munen Hessen (zuzüglich KFA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2 Milliarden E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FA = Länderfinanzausgleich, KFA = Kommunaler Finanzausgle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e Perspekti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aktuelle Aufschwung wird die finanzielle Lage der öffentlichen Haushalte etwas entspannen, die Finanzlage vieler Kommunen bleibt aber prekä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wirkungen der Schuldenbremse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bestehen verschiedene konjunkturelle Risik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 Konjunkturprogramme laufen weltweit au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igende Rohstoffpreise in Verbindung mit Zinserhöhungen der EZB würden die Konjunktur dämpfe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 Ausstieg Griechenlands aus dem Euro oder gar ein Auseinanderbrechen des Euroraums könnte dramatische Folgen für die deutsche, extrem exportabhängige deutsche Wirtschaft habe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s eigentlich passieren müsst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utschland wäre unter konjunkturellen Gesichtspunkten eine expansive Lohnpolitik und eine expansive Ausgabenpolitik der öffentlichen Hand angezeig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besteht ein erheblicher Ausgabenbedarf in zentralen gesellschaftlichen Feldern – für die Kommunen ist hier insbesondere an den Bildungsbereich und die öffentlichen Investitionen zu denk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ch eine Steuerpolitik, die hohe Einkommen und Vermögen belastet, sollte die öffentliche Hand ihre Einnahmebasis vergrößern (Kommunen z.B. Gemeindewirtschaftssteuer)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eilung des Nettovermögens 2002 und 2007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oder über was eigentlich diskutiert werden müs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68360" y="2060640"/>
          <a:ext cx="8229600" cy="417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822960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2642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innahmen und Ausgaben der Kommunen 1992-20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95280" y="2349360"/>
          <a:ext cx="8229600" cy="35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349360"/>
                    <a:ext cx="8229600" cy="35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nzierungssaldo der Kommunen 1992-20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8360" y="2276640"/>
          <a:ext cx="8229600" cy="385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276640"/>
                    <a:ext cx="8229600" cy="38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innahmen und Ausgaben der Kommunen in Hessen 1994-200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9640" y="2421000"/>
          <a:ext cx="8229600" cy="383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421000"/>
                    <a:ext cx="8229600" cy="38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mmunale Staatsquote in Hessen 1994-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68360" y="2492280"/>
          <a:ext cx="8229600" cy="374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92280"/>
                    <a:ext cx="822960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uereinnahmen der Kommunen 1994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95280" y="2060640"/>
          <a:ext cx="8229600" cy="404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060640"/>
                    <a:ext cx="8229600" cy="40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deszuweisungen und Steuereinnahmen 1994-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8360" y="2421000"/>
          <a:ext cx="8229600" cy="377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21000"/>
                    <a:ext cx="8229600" cy="37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mmunale Sachinvestitione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4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2421000"/>
          <a:ext cx="8229600" cy="364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21000"/>
                    <a:ext cx="822960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mmunale Sachinvestitionen in Hesse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4-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2421000"/>
          <a:ext cx="8229600" cy="38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21000"/>
                    <a:ext cx="822960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11:34:25Z</dcterms:created>
  <dc:creator>keickerwolf</dc:creator>
  <dc:description/>
  <dc:language>en-US</dc:language>
  <cp:lastModifiedBy>Keickerwolf</cp:lastModifiedBy>
  <dcterms:modified xsi:type="dcterms:W3CDTF">2011-05-21T10:05:45Z</dcterms:modified>
  <cp:revision>46</cp:revision>
  <dc:subject/>
  <dc:title>Hilft nur noch Gürtel-enger-schnallen und Sozialabbau? </dc:title>
</cp:coreProperties>
</file>